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4CF-3F80-48F6-9C80-BBE0A728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4AC-4CAC-42E4-82C6-2604B89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74F-5CF4-41DB-8BB2-0B676771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391-4F17-4034-BB01-67C725D9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BD0-3284-445B-A5BC-2DE5469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A7F-02B7-4E31-B182-9C3A43E2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15E-972F-45E6-A9A3-0F9A8167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889-8003-4DBE-9A00-939FED51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8B1-F29B-4A49-A73F-21025C6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B0B-3368-4D23-98EC-F433303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2CB-C03C-4694-AB83-81EFB7C2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F2D-49F9-4BB7-B05C-66484CD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49DB-1F79-4BCC-A663-CBC025A6FD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1424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16668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γαρ ἀπεστειλεν ὁ θεος τον υἱον εἰς τον κοσμον ἱνα κρινῃ τον κοσμον, ἀλλ’ ἱνα σωθῃ ὁ κοσμος δι’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οκριθεις αὐτῳ ὁ Ἰησους εἰπεν∙ Τί σοι θελεις ποιησ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δε τυφλος εἰπεν αὐτῳ, Ῥαββι, ἱνα ἀναβλεψ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 ἐν ἐκεινῃ τῃ ἡμερᾳ∙ Διελθωμε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στρατιωτης ἰδων ἀνεῳγμεν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ect Passive Participle fro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οιγω) τας θυρας της φυλακης, ἠμελλεν ἑαυτον ἀναιρειν μαχαιρᾳ δοκων ὁτι πεφευγασιν οἱ μαθη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γαρ ἀν ποιησῃ το θελημα του θεου, οὑτος ἀδελφος μου και ἀδελφη και μητηρ ἐστι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ελθουσα εἰπεν τῃ μητρι αὐτης∙ Τί αἰτησω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δε εἰπεν∙ Την κεφαλην Ἰωαννου του βαπτιζον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14200" y="1071720"/>
            <a:ext cx="89298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ἠλθεν εἰς μαρτυριαν, ἱνα μαρτυρησῃ περι του φωτος, ἱνα παντες πιστευσωσιν δι’ αὐτου. οὐκ ἠν ἐκεινος το φως, ἀλλ’ ἱνα μαρτυρησῃ περι του φω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ι δ’ εἰσιν οἱ παρα την ὁδον∙ ὁπου σπειρεται ὁ λογος, και ὁταν ἀκουσωσιν, εὐθυς ἐρχεται ὁ Σατανας και αἰρει τον λογον τον ἐσπαρμεν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Perfect Passive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πειρω) εἰς αὐ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nd having gone out into the fields they preached so that the people would rep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His mercy is for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FangSong"/>
              </a:rPr>
              <a:t>εἰ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FangSong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 generations and generations to those who fear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ccording to the writings, there will be signs in the sun and stars, and on the earth suffering and need of the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And they were bringing children to him so that he might touc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920" y="166680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ἑν των τοιουτων παιδιων δεξηται ἐπι τῳ ὀνοματι μου, ἐμε δεχεται∙ και ὁς ἀν ἐμε δεχηται, οὐκ ἐμε δεχεται ἀλλα τον ἀποστειλαντα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ἡ μητηρ αὐτου τοις διακονοις∙ Ὅ τι ἀν λεγῃ ὑμιν ποιησα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ε εἰπαν∙ Τί ἐτι ἐχομεν μαρτυριας χρει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ι γαρ ἠκουσαμεν ἀπο του στοματ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στειλεν αὐτον εἰς οἰκον αὐτου λεγων∙ Μη εἰς την κωμην εἰσελθῃ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Ἀγωμεν εἰς τας ἀλλας πολεις και κωμας, ἱνα και ἐκει κηρηξω∙ εἰς τουτο γαρ ἐξ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ιστευων εἰς τον υἱον ἐχει ζωην αἰωνιον∙ ὁ δε ἀρνουμενος τον υἱον οὐκ ὀψε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(irregular Futur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ραω) ζωην, ἀλλ’ ἡ ὀργη του θεου μενει ἐπ’ αὐτ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14200" y="1071720"/>
            <a:ext cx="8929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εν υἱος του ἀνθρωπου ὑπαγει καθως γεγραπται περι αὐτου, οὐαι δε τῳ ἀνθρωπῳ ἐκεινῳ ὁς ἀν ᾐ ὁ ἐχθρος τῳ υἱῳ του ἀνθρωπ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δε οὐ παρα ἀνθρωπου την μαρτυριαν λαμβανω, ἀλλα ταυτα λεγω ἱνα ὑμεις σω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servants of God say ‘Wisdom and honour and power and glory be (omit the verb to be) to the lamb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promises of God and the covenant are salvation for this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leaders of Judea listened to his testimony until the end in order that they might accus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e servant asked his masters, ‘What do you wish that I might do for you (pl.)?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14360" y="1550880"/>
            <a:ext cx="82868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28-30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ἶπον οὖν πρὸς αὐτόν, Τί ποιῶμεν ἵνα ἐργαζώμεθα τὰ ἔργα τοῦ θεοῦ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κρίθη ὁ Ἰησοῦς καὶ εἶπεν αὐτοῖς, Τοῦτό ἐστιν τὸ ἔργον τοῦ θεοῦ, ἵνα πιστεύητε εἰς ὃν ἀπέστειλεν ἐκεῖνο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ἶπον οὖν αὐτῷ, Τί οὖν ποιεῖς σὺ σημεῖον, ἵνα ἴδωμεν καὶ πιστεύσωμέν σο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ἐργάζ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1:55Z</dcterms:created>
  <dc:creator>Sarah</dc:creator>
  <dc:description/>
  <dc:language>en-US</dc:language>
  <cp:lastModifiedBy>Sarah</cp:lastModifiedBy>
  <dcterms:modified xsi:type="dcterms:W3CDTF">2009-07-09T19:05:36Z</dcterms:modified>
  <cp:revision>14</cp:revision>
  <dc:subject/>
  <dc:title>Slide 1</dc:title>
</cp:coreProperties>
</file>